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7932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088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8740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7932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088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spcAft>
                <a:spcPts val="488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spcAft>
                <a:spcPts val="488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870120">
              <a:spcBef>
                <a:spcPts val="326"/>
              </a:spcBef>
              <a:spcAft>
                <a:spcPts val="488"/>
              </a:spcAft>
              <a:buClr>
                <a:srgbClr val="ffff00"/>
              </a:buClr>
              <a:buFont typeface="Tahoma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998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4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5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6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9051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5600" spc="-1" strike="noStrike">
                <a:solidFill>
                  <a:srgbClr val="ffff00"/>
                </a:solidFill>
                <a:latin typeface="Arial Black"/>
              </a:rPr>
              <a:t>Tips &amp; Tricks</a:t>
            </a:r>
            <a:br>
              <a:rPr sz="5600"/>
            </a:br>
            <a:r>
              <a:rPr b="0" lang="en-US" sz="5600" spc="-1" strike="noStrike">
                <a:solidFill>
                  <a:srgbClr val="ffff00"/>
                </a:solidFill>
                <a:latin typeface="Arial Black"/>
              </a:rPr>
              <a:t>and otherwise</a:t>
            </a:r>
            <a:br>
              <a:rPr sz="5600"/>
            </a:br>
            <a:r>
              <a:rPr b="0" lang="en-US" sz="5600" spc="-1" strike="noStrike">
                <a:solidFill>
                  <a:srgbClr val="ffff00"/>
                </a:solidFill>
                <a:latin typeface="Arial Black"/>
              </a:rPr>
              <a:t>COOLSTUFF!</a:t>
            </a:r>
            <a:endParaRPr b="0" lang="en-US" sz="5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0" y="45720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414"/>
              </a:spcBef>
              <a:spcAft>
                <a:spcPts val="612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VLDB Backup Strategies – Case Study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spcAft>
                <a:spcPts val="612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Kimberly L. Tripp</a:t>
            </a:r>
            <a:br>
              <a:rPr sz="3300"/>
            </a:b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Lesson: VLDB Backup Best Practic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le/Filegroup Backup Strateg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se Study/Self Paced Examp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athering Backup Histo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File/Filegroup Backup Strategie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18680" indent="-41868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quire Transaction Log backups for Restor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18680" indent="-41868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quire FULL and/or Bulk Logged Recovery Mod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18680" indent="-41868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o NOT Require a FULL Backup to have been performed – ever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18680" indent="-41868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n BACKUP Files individually – not restricted to backup all files in a Filegroup (this was a change from SQL Server 7.0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18680" indent="-41868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d Improved Restore Capabilities (less time) at the expense of some Administrative Complex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ase Study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34400" y="1508040"/>
            <a:ext cx="1461240" cy="1920960"/>
            <a:chOff x="734400" y="1508040"/>
            <a:chExt cx="1461240" cy="1920960"/>
          </a:xfrm>
        </p:grpSpPr>
        <p:sp>
          <p:nvSpPr>
            <p:cNvPr id="47" name=""/>
            <p:cNvSpPr/>
            <p:nvPr/>
          </p:nvSpPr>
          <p:spPr>
            <a:xfrm>
              <a:off x="1738440" y="1508040"/>
              <a:ext cx="457200" cy="457200"/>
            </a:xfrm>
            <a:prstGeom prst="can">
              <a:avLst>
                <a:gd name="adj" fmla="val 250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38440" y="1874880"/>
              <a:ext cx="457200" cy="457200"/>
            </a:xfrm>
            <a:prstGeom prst="can">
              <a:avLst>
                <a:gd name="adj" fmla="val 250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38440" y="2239920"/>
              <a:ext cx="457200" cy="457200"/>
            </a:xfrm>
            <a:prstGeom prst="can">
              <a:avLst>
                <a:gd name="adj" fmla="val 250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38440" y="2606760"/>
              <a:ext cx="457200" cy="457200"/>
            </a:xfrm>
            <a:prstGeom prst="can">
              <a:avLst>
                <a:gd name="adj" fmla="val 250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38440" y="2971800"/>
              <a:ext cx="457200" cy="457200"/>
            </a:xfrm>
            <a:prstGeom prst="can">
              <a:avLst>
                <a:gd name="adj" fmla="val 250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4400" y="159876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Primar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36080" y="19652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File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36080" y="23209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File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36080" y="2725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File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80160" y="3052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Lo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189080" y="1325520"/>
            <a:ext cx="722304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5480" y="11286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60680" y="1508040"/>
            <a:ext cx="457200" cy="45720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82920" y="1874880"/>
            <a:ext cx="457200" cy="45720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82920" y="2239920"/>
            <a:ext cx="457200" cy="45720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82920" y="2606760"/>
            <a:ext cx="457200" cy="45720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06960" y="1874880"/>
            <a:ext cx="457200" cy="457200"/>
          </a:xfrm>
          <a:prstGeom prst="can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06960" y="2239920"/>
            <a:ext cx="457200" cy="457200"/>
          </a:xfrm>
          <a:prstGeom prst="can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06960" y="2616120"/>
            <a:ext cx="457200" cy="457200"/>
          </a:xfrm>
          <a:prstGeom prst="can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1508040"/>
            <a:ext cx="457200" cy="45720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61080" y="1874880"/>
            <a:ext cx="457200" cy="457200"/>
          </a:xfrm>
          <a:prstGeom prst="can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61080" y="2239920"/>
            <a:ext cx="457200" cy="45720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1080" y="2606760"/>
            <a:ext cx="457200" cy="457200"/>
          </a:xfrm>
          <a:prstGeom prst="can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10040" y="2971800"/>
            <a:ext cx="1825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T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L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O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2280" y="2971800"/>
            <a:ext cx="1825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T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L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O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56320" y="2971800"/>
            <a:ext cx="1825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T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L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O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2971800"/>
            <a:ext cx="1825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T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L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O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0440" y="2971800"/>
            <a:ext cx="1825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T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L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O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621480" y="1417680"/>
            <a:ext cx="969840" cy="819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772400" y="2971800"/>
            <a:ext cx="1825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T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L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O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8480" y="1325520"/>
            <a:ext cx="0" cy="18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81360" y="1325520"/>
            <a:ext cx="0" cy="18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325520"/>
            <a:ext cx="0" cy="164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24440" y="1325520"/>
            <a:ext cx="0" cy="164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36960" y="1325520"/>
            <a:ext cx="0" cy="164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8560" y="1325520"/>
            <a:ext cx="0" cy="164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91440" y="1325520"/>
            <a:ext cx="0" cy="164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64560" y="1325520"/>
            <a:ext cx="0" cy="164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1325520"/>
            <a:ext cx="0" cy="54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46640" y="1325520"/>
            <a:ext cx="0" cy="18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5840" y="10508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920" y="1052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7560" y="10508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51640" y="1052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7920" y="1325520"/>
            <a:ext cx="0" cy="54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59520" y="10508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92960" y="1052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99400" y="10508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10526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75280" y="1325520"/>
            <a:ext cx="0" cy="549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16880" y="10508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560" y="1052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9840" y="10508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6120" y="11430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09720" y="1782720"/>
            <a:ext cx="18288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I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L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56280" y="1782720"/>
            <a:ext cx="18252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I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L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9360" y="2211480"/>
            <a:ext cx="182520" cy="137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I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L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E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G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R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O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U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35480" y="2521080"/>
            <a:ext cx="182520" cy="106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D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I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F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96080" y="2514600"/>
            <a:ext cx="182520" cy="106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D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I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F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9360" y="3794040"/>
            <a:ext cx="8412120" cy="28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410040" indent="-4100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ep 1 – Determine how to get the structure of the database created. Tip – need the Primary and all other FULL file/filegroup backups. </a:t>
            </a: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Backups 7 and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-4100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ep 2 – Bring the file/filegroups up to the minute as fast as possible. Tip – find the lastest differentials. </a:t>
            </a: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Backup 9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10040" indent="-4100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tep 3 – Apply the Transaction Logs that will make this database consistent. Tip – Look for the oldest FULL file/filegroup or differential and then check for the min LSN. </a:t>
            </a: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Backups – 6?, 8, 10, and 1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57240" y="2211480"/>
            <a:ext cx="182520" cy="137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D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B</a:t>
            </a: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C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R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E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A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T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Lucida Console"/>
              </a:rPr>
              <a:t>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Gathering Backup Histo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7400" y="1417680"/>
            <a:ext cx="7369200" cy="483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rom Devices – LOAD HEADERONL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rom MSDB, if the information exi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ELECT Backup_Start_Date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[Name]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[Description]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irst_LSN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ast_LSN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ackup_Finish_Date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</a:rPr>
              <a:t>-- OR Just *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ROM msdb.dbo.backupset AS 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JOIN msdb.dbo.backupmediafamily AS 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N s.media_set_id = m.media_set_i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HERE database_name = 'PubsTest'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587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RDER BY 1 ASC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2T20:55:51Z</dcterms:created>
  <dc:creator>Kimberly L. Simonnet</dc:creator>
  <dc:description/>
  <dc:language>en-US</dc:language>
  <cp:lastModifiedBy>Kimberly L. Tripp-Simonnet</cp:lastModifiedBy>
  <cp:lastPrinted>2000-01-11T15:02:00Z</cp:lastPrinted>
  <dcterms:modified xsi:type="dcterms:W3CDTF">2002-05-30T00:16:19Z</dcterms:modified>
  <cp:revision>104</cp:revision>
  <dc:subject/>
  <dc:title>PASS 2001 North America   September 19-22, 2000  Orlando, Florida USA</dc:title>
</cp:coreProperties>
</file>