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4CFE-6114-408C-9030-23A7A1BC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93B-D9DC-46CD-91F3-49EACF01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F0E-B2FB-4D97-9DC1-F2E2BA0A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EA3-AD1D-4ED4-86B7-69D6E3B3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391-93CF-4BF8-ACF1-659C4394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F5E-769B-4BBB-BECB-AECB494F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7B1-106A-43B8-A564-6A09760A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88C-2300-4690-8755-D2900871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86D-43CF-43B5-B8AC-B16EB330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A6F-B542-4A2C-8CD2-4103262B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D19-3B6D-4BF1-8464-4F6DBE59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799-4B9F-48A4-B314-D1E1A973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A124-28D4-4136-A73A-54591C6B6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idqualitylearning.com/" TargetMode="External"/><Relationship Id="rId2" Type="http://schemas.openxmlformats.org/officeDocument/2006/relationships/hyperlink" Target="http://www.sqlskills.com/" TargetMode="External"/><Relationship Id="rId3" Type="http://schemas.openxmlformats.org/officeDocument/2006/relationships/hyperlink" Target="mailto:Kimberly@SQLSkills.com" TargetMode="External"/><Relationship Id="rId4" Type="http://schemas.openxmlformats.org/officeDocument/2006/relationships/hyperlink" Target="mailto:Kimberly@SolidQualityLearning.com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dexes from Every Angl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ggregations &amp; Indexed View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3657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Kimberly L. Tripp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incipal Mentor, Solid Quality Learning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olidQualityLearning.com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esident, </a:t>
            </a:r>
            <a:r>
              <a:rPr b="1" i="1" lang="en-US" sz="2600" spc="-1" strike="noStrike">
                <a:solidFill>
                  <a:srgbClr val="ffff66"/>
                </a:solidFill>
                <a:latin typeface="Times New Roman"/>
              </a:rPr>
              <a:t>SYS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</a:rPr>
              <a:t>olutions, Inc.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QLSkills.com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mail m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imberly@SQLSkills.com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Kimberly@SolidQualityLearning.com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240" y="26496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: DBA 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1320" y="1981080"/>
            <a:ext cx="2971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’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ff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16571" r="0" b="9762"/>
          <a:stretch/>
        </p:blipFill>
        <p:spPr>
          <a:xfrm>
            <a:off x="380880" y="374760"/>
            <a:ext cx="6172200" cy="533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r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10040" indent="-410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ore temp tabl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410040" indent="-410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ore contention in tempdb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410040" indent="-410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arger tempdb requir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410040" indent="-410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erformance Varies on each execution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410040" indent="-410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ggregate needs to be comput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410040" indent="0">
              <a:spcBef>
                <a:spcPts val="825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300" spc="-1" strike="noStrike">
                <a:solidFill>
                  <a:srgbClr val="ffff66"/>
                </a:solidFill>
                <a:latin typeface="Arial"/>
              </a:rPr>
              <a:t>Is there a better way?</a:t>
            </a:r>
            <a:endParaRPr b="0" lang="en-US" sz="3300" spc="-1" strike="noStrike">
              <a:solidFill>
                <a:srgbClr val="ffff66"/>
              </a:solidFill>
              <a:latin typeface="Arial"/>
            </a:endParaRPr>
          </a:p>
          <a:p>
            <a:pPr lvl="1" marL="725040" indent="0">
              <a:spcBef>
                <a:spcPts val="850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dexed Views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xing for Aggreg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05720" indent="-40572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Two types of Aggregates 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tream and Hash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405720" indent="-40572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Try to Achieve Stream to Minimize Overhead in temp table crea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405720" indent="-40572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omputation of the Aggregate Still Required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405720" indent="-40572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Lots of Users, Contention and/or Minimal Cache can Aggravate the problem!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405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gregate Qu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4316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ember has 10,000 Row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431640" indent="-4316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arge has 800,000 Row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SELECT member_no AS MemberNo, 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sum(charge_amt) AS TotalSales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FROM dbo.charge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GROUP BY member_no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gregate Query – No Ind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10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SELECT member_no AS MemberNo, 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marL="410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sum(charge_amt) AS TotalSales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marL="410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FROM dbo.charge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marL="410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GROUP BY member_no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marL="410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410040" indent="-41004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ble Scan of Charge Tabl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25040" indent="-213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●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st structure to evalu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040" indent="-41004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orktable created to store intermediate aggregated results – OUT OF ORDER (HASH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10040" indent="-41004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ata Returned OUT OF ORDER – unless ORDER BY added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10040" indent="-41004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dditional ORDER BY causes another step for SORT – sorting can be expensive!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10040" indent="0">
              <a:spcBef>
                <a:spcPts val="601"/>
              </a:spcBef>
              <a:buNone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10040" indent="0">
              <a:spcBef>
                <a:spcPts val="601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gregate Query – No Ind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84240" y="1370160"/>
            <a:ext cx="7626240" cy="4649760"/>
            <a:chOff x="984240" y="1370160"/>
            <a:chExt cx="7626240" cy="4649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999" t="14999" r="999" b="13735"/>
            <a:stretch/>
          </p:blipFill>
          <p:spPr>
            <a:xfrm>
              <a:off x="984240" y="1370160"/>
              <a:ext cx="7169040" cy="4649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4" name=""/>
            <p:cNvSpPr/>
            <p:nvPr/>
          </p:nvSpPr>
          <p:spPr>
            <a:xfrm>
              <a:off x="6308640" y="2021040"/>
              <a:ext cx="2301840" cy="916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 'charge'.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an count 1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reads 485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gregate Query – Hash Mat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0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3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SELECT member_no AS MemberNo, </a:t>
            </a:r>
            <a:endParaRPr b="0" lang="en-US" sz="2100" spc="-1" strike="noStrike">
              <a:solidFill>
                <a:srgbClr val="ffff66"/>
              </a:solidFill>
              <a:latin typeface="Arial"/>
            </a:endParaRPr>
          </a:p>
          <a:p>
            <a:pPr marL="40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sum(charge_amt) AS TotalSales</a:t>
            </a:r>
            <a:endParaRPr b="0" lang="en-US" sz="2100" spc="-1" strike="noStrike">
              <a:solidFill>
                <a:srgbClr val="ffff66"/>
              </a:solidFill>
              <a:latin typeface="Arial"/>
            </a:endParaRPr>
          </a:p>
          <a:p>
            <a:pPr marL="40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FROM dbo.charge</a:t>
            </a:r>
            <a:endParaRPr b="0" lang="en-US" sz="2100" spc="-1" strike="noStrike">
              <a:solidFill>
                <a:srgbClr val="ffff66"/>
              </a:solidFill>
              <a:latin typeface="Arial"/>
            </a:endParaRPr>
          </a:p>
          <a:p>
            <a:pPr marL="405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GROUP BY member_no</a:t>
            </a:r>
            <a:endParaRPr b="0" lang="en-US" sz="2100" spc="-1" strike="noStrike">
              <a:solidFill>
                <a:srgbClr val="ffff66"/>
              </a:solidFill>
              <a:latin typeface="Arial"/>
            </a:endParaRPr>
          </a:p>
          <a:p>
            <a:pPr marL="405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marL="405720" indent="-4057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ut of Order Covering Index on Charge Tabl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17480" indent="-21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●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Exists which is narrower than base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7480" indent="-21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●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instead of table – to cover the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5720" indent="-4057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orktable still created to store intermediate aggregated results – OUT OF ORDER (HASH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05720" indent="-4057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ata Returned OUT OF ORDER – unless ORDER BY added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05720" indent="-4057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dditional ORDER BY causes another step for SORT – sorting can be expensive!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0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0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gregate Query – Hash Mat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999" t="14999" r="2126" b="12615"/>
          <a:stretch/>
        </p:blipFill>
        <p:spPr>
          <a:xfrm>
            <a:off x="1143000" y="1066680"/>
            <a:ext cx="7012080" cy="47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477120" y="2251080"/>
            <a:ext cx="2514600" cy="916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'charge'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count 1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reads 22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96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gregate Query – Str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2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SELECT member_no AS MemberNo, </a:t>
            </a:r>
            <a:endParaRPr b="0" lang="en-US" sz="2100" spc="-1" strike="noStrike">
              <a:solidFill>
                <a:srgbClr val="ffff66"/>
              </a:solidFill>
              <a:latin typeface="Arial"/>
            </a:endParaRPr>
          </a:p>
          <a:p>
            <a:pPr marL="42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sum(charge_amt) AS TotalSales</a:t>
            </a:r>
            <a:endParaRPr b="0" lang="en-US" sz="2100" spc="-1" strike="noStrike">
              <a:solidFill>
                <a:srgbClr val="ffff66"/>
              </a:solidFill>
              <a:latin typeface="Arial"/>
            </a:endParaRPr>
          </a:p>
          <a:p>
            <a:pPr marL="42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FROM dbo.charge</a:t>
            </a:r>
            <a:endParaRPr b="0" lang="en-US" sz="2100" spc="-1" strike="noStrike">
              <a:solidFill>
                <a:srgbClr val="ffff66"/>
              </a:solidFill>
              <a:latin typeface="Arial"/>
            </a:endParaRPr>
          </a:p>
          <a:p>
            <a:pPr marL="42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eaeaea"/>
                </a:solidFill>
                <a:latin typeface="Courier New"/>
              </a:rPr>
              <a:t>GROUP BY member_no</a:t>
            </a:r>
            <a:endParaRPr b="0" lang="en-US" sz="2100" spc="-1" strike="noStrike">
              <a:solidFill>
                <a:srgbClr val="ffff66"/>
              </a:solidFill>
              <a:latin typeface="Arial"/>
            </a:endParaRPr>
          </a:p>
          <a:p>
            <a:pPr marL="42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423000" indent="-42300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Covering Index on Charge Table – In ORDER of GROUP BY Clause</a:t>
            </a:r>
            <a:endParaRPr b="0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748080" indent="-220680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●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 Exists which is narrower than base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8080" indent="-220680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●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instead of table – to cover th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8080" indent="-220680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●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vers the GROUP BY so that data is already grouped for aggreg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Significantly less work to aggregate results – IN ORDER</a:t>
            </a:r>
            <a:endParaRPr b="0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23000" indent="-42300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Data Returned IN ORDER – unless ORDER BY or other joins added</a:t>
            </a:r>
            <a:endParaRPr b="0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23000" indent="-42300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dding an ORDER BY identical to the GROUP BY does NOT cause any additional step for sorting!</a:t>
            </a:r>
            <a:endParaRPr b="0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23000" indent="0">
              <a:spcBef>
                <a:spcPts val="550"/>
              </a:spcBef>
              <a:buNone/>
              <a:tabLst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23000" indent="0">
              <a:spcBef>
                <a:spcPts val="550"/>
              </a:spcBef>
              <a:buNone/>
              <a:tabLst>
                <a:tab algn="l" pos="0"/>
                <a:tab algn="l" pos="1387440"/>
                <a:tab algn="l" pos="1706400"/>
                <a:tab algn="l" pos="20797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gregate Query – Str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999" t="14999" r="999" b="13735"/>
          <a:stretch/>
        </p:blipFill>
        <p:spPr>
          <a:xfrm>
            <a:off x="914400" y="1370160"/>
            <a:ext cx="7169040" cy="464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6099120" y="2021040"/>
            <a:ext cx="2514600" cy="916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'charge'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count 1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reads 22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2:16:31Z</dcterms:created>
  <dc:creator>Erik Ruthruff</dc:creator>
  <dc:description/>
  <dc:language>en-US</dc:language>
  <cp:lastModifiedBy>v-ktripp</cp:lastModifiedBy>
  <dcterms:modified xsi:type="dcterms:W3CDTF">2003-05-09T21:03:09Z</dcterms:modified>
  <cp:revision>15</cp:revision>
  <dc:subject/>
  <dc:title>The Rain in Spain</dc:title>
</cp:coreProperties>
</file>