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E58AD9-B484-4903-AEE0-C29497063E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A60FD0-66D3-4B42-95D7-576B02BE0A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8920" y="4349520"/>
            <a:ext cx="61117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36520" y="687240"/>
            <a:ext cx="4681800" cy="3510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Logged </a:t>
            </a:r>
            <a:r>
              <a:rPr b="0" lang="en-US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LL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 to point-in-time is enabled by the next log backup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932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088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8740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932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088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"/>
              </a:spcBef>
              <a:spcAft>
                <a:spcPts val="488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07640" y="119160"/>
            <a:ext cx="78138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"/>
              </a:spcBef>
              <a:spcAft>
                <a:spcPts val="488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"/>
              </a:spcBef>
              <a:spcAft>
                <a:spcPts val="488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7932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088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8740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7932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088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07640" y="119160"/>
            <a:ext cx="78138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"/>
              </a:spcBef>
              <a:spcAft>
                <a:spcPts val="488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80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870120">
              <a:spcBef>
                <a:spcPts val="162"/>
              </a:spcBef>
              <a:spcAft>
                <a:spcPts val="488"/>
              </a:spcAft>
              <a:buClr>
                <a:srgbClr val="ffff00"/>
              </a:buClr>
              <a:buFont typeface="Tahoma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99864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4" marL="134460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5" marL="134460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6" marL="134460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875640" y="6143760"/>
            <a:ext cx="195408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4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7640" y="119160"/>
            <a:ext cx="7813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870120">
              <a:spcBef>
                <a:spcPts val="162"/>
              </a:spcBef>
              <a:spcAft>
                <a:spcPts val="488"/>
              </a:spcAft>
              <a:buClr>
                <a:srgbClr val="ffff00"/>
              </a:buClr>
              <a:buFont typeface="Tahoma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99864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4" marL="134460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5" marL="134460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6" marL="1344600">
              <a:spcBef>
                <a:spcPts val="162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75640" y="6143760"/>
            <a:ext cx="195408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qlskills.com/" TargetMode="External"/><Relationship Id="rId3" Type="http://schemas.openxmlformats.org/officeDocument/2006/relationships/hyperlink" Target="mailto:Kimberly@SQLSkills.com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6640" y="2438280"/>
            <a:ext cx="777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880" y="171360"/>
            <a:ext cx="882324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Black"/>
              </a:rPr>
              <a:t>Logging &amp; Recovery</a:t>
            </a:r>
            <a:br>
              <a:rPr sz="3800"/>
            </a:b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What Programmers Always Avoid Until it’s too Late!</a:t>
            </a:r>
            <a:endParaRPr b="0" lang="en-US" sz="2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5245200" y="2500200"/>
            <a:ext cx="36860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lnSpc>
                <a:spcPct val="100000"/>
              </a:lnSpc>
              <a:spcBef>
                <a:spcPts val="162"/>
              </a:spcBef>
              <a:spcAft>
                <a:spcPts val="488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Kimberly L. Trip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264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sultant/Trainer/Speaker/Wri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264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264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requisites for presentation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264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 assume you know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) how to fill your transaction log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) how to write transaction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) the importance of minimizing data los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) the basics+ of SQL Server 200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300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300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Level: Intermedi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2357280"/>
            <a:ext cx="503244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3100" spc="-1" strike="noStrike">
                <a:solidFill>
                  <a:srgbClr val="ffffff"/>
                </a:solidFill>
                <a:latin typeface="Tahoma"/>
              </a:rPr>
              <a:t>##</a:t>
            </a:r>
            <a:endParaRPr b="0" lang="en-US" sz="2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2120" y="152280"/>
            <a:ext cx="869976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Black"/>
              </a:rPr>
              <a:t>Switching Recovery Models</a:t>
            </a:r>
            <a:endParaRPr b="0" lang="en-US" sz="3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82520" y="4287960"/>
            <a:ext cx="877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9360" indent="-2793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ull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BULK_LOGGED doesn’t break automated backup procedures or log shipping. However, a log backup immediately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Narrow"/>
              </a:rPr>
              <a:t>before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(when changing to Bulk Logged) and a log backup immediately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Narrow"/>
              </a:rPr>
              <a:t>after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(when changing back to full) are recommend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ransitions to/from SIMPLE are NEVER recommended as they break the continuity of the log chain. This eliminates your ability to go back to a prior full…meaning you’re only as good as your last full backup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08840" y="3500280"/>
            <a:ext cx="1981080" cy="64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Times New Roman"/>
              </a:rPr>
              <a:t>n/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11560" y="3489480"/>
            <a:ext cx="1914480" cy="64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 Narrow"/>
              </a:rPr>
              <a:t>Backup Log just prior to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8320" y="3489480"/>
            <a:ext cx="1443240" cy="644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</a:rPr>
              <a:t>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29280" y="2863800"/>
            <a:ext cx="1877760" cy="64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Times New Roman"/>
              </a:rPr>
              <a:t>n/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11560" y="2854440"/>
            <a:ext cx="1914480" cy="64584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No Change Required, </a:t>
            </a: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Transaction Log Backup Recommended BEFO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68320" y="2854440"/>
            <a:ext cx="1443240" cy="645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 Narrow"/>
              </a:rPr>
              <a:t>B</a:t>
            </a:r>
            <a:r>
              <a:rPr b="1" lang="en-US" sz="1600" spc="-1" strike="noStrike">
                <a:solidFill>
                  <a:srgbClr val="4d4d4d"/>
                </a:solidFill>
                <a:latin typeface="Arial Narrow"/>
              </a:rPr>
              <a:t>ulk_Lo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19560" y="2168640"/>
            <a:ext cx="1917720" cy="68904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 Narro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No Change Required, </a:t>
            </a: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Transaction Log Backup Recommended AF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00400" y="2176560"/>
            <a:ext cx="1914480" cy="677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Times New Roman"/>
              </a:rPr>
              <a:t>n/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8320" y="2176560"/>
            <a:ext cx="1443240" cy="6778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  <a:ea typeface="Arial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9120" y="1353960"/>
            <a:ext cx="1981080" cy="822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  <a:ea typeface="Arial"/>
              </a:rPr>
              <a:t>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9560" y="1353960"/>
            <a:ext cx="1878120" cy="822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  <a:ea typeface="Arial"/>
              </a:rPr>
              <a:t>Bulk_Logg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11560" y="1353960"/>
            <a:ext cx="1914480" cy="822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  <a:ea typeface="Arial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8320" y="1353960"/>
            <a:ext cx="1443240" cy="822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Narrow"/>
                <a:ea typeface="Arial"/>
              </a:rPr>
              <a:t>    </a:t>
            </a:r>
            <a:r>
              <a:rPr b="1" lang="en-US" sz="2400" spc="-1" strike="noStrike">
                <a:solidFill>
                  <a:srgbClr val="4d4d4d"/>
                </a:solidFill>
                <a:latin typeface="Arial Narrow"/>
                <a:ea typeface="Arial"/>
              </a:rPr>
              <a:t>From</a:t>
            </a:r>
            <a:r>
              <a:rPr b="1" lang="en-US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Narrow"/>
                <a:ea typeface="Arial"/>
              </a:rPr>
              <a:t>To </a:t>
            </a:r>
            <a:r>
              <a:rPr b="1" lang="en-US" sz="2400" spc="-1" strike="noStrike">
                <a:solidFill>
                  <a:srgbClr val="4d4d4d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7680" y="2851200"/>
            <a:ext cx="19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Full Database or Differential backup after 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9560" y="3505320"/>
            <a:ext cx="1878120" cy="61416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 Narrow"/>
              </a:rPr>
              <a:t>Backup Log just prior to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9120" y="2176560"/>
            <a:ext cx="1981080" cy="67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Full Database or Differential backup after 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8960" y="1347840"/>
            <a:ext cx="7221240" cy="2781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6240" y="1362240"/>
            <a:ext cx="5216760" cy="2151000"/>
          </a:xfrm>
          <a:prstGeom prst="rect">
            <a:avLst/>
          </a:prstGeom>
          <a:noFill/>
          <a:ln cap="rnd" w="6984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7524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213"/>
              </a:spcBef>
              <a:spcAft>
                <a:spcPts val="649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Kimberly L. Tripp</a:t>
            </a:r>
            <a:br>
              <a:rPr sz="3500"/>
            </a:b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peaker/Writer/Trainer/Consultant</a:t>
            </a:r>
            <a:br>
              <a:rPr sz="3000"/>
            </a:br>
            <a:r>
              <a:rPr b="1" i="1" lang="en-US" sz="4300" spc="-1" strike="noStrike">
                <a:solidFill>
                  <a:srgbClr val="ffffff"/>
                </a:solidFill>
                <a:latin typeface="Times New Roman"/>
              </a:rPr>
              <a:t>SYS</a:t>
            </a: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olutions, Inc.</a:t>
            </a:r>
            <a:br>
              <a:rPr sz="4300"/>
            </a:br>
            <a:r>
              <a:rPr b="0" lang="en-US" sz="30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www.SQLSkills.com</a:t>
            </a:r>
            <a:br>
              <a:rPr sz="3000"/>
            </a:br>
            <a:r>
              <a:rPr b="0" lang="en-US" sz="30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Kimberly@SQLSkills.com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13"/>
              </a:spcBef>
              <a:spcAft>
                <a:spcPts val="649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12"/>
              </a:spcBef>
              <a:spcAft>
                <a:spcPts val="938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Please fill out your evaluation!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US" sz="4300" spc="-1" strike="noStrike">
                <a:solidFill>
                  <a:srgbClr val="ffffff"/>
                </a:solidFill>
                <a:latin typeface="Times New Roman"/>
              </a:rPr>
              <a:t>Thank you!</a:t>
            </a:r>
            <a:endParaRPr b="0" lang="en-US" sz="43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4:55:58Z</dcterms:created>
  <dc:creator>Kimberly L. Tripp</dc:creator>
  <dc:description/>
  <dc:language>en-US</dc:language>
  <cp:lastModifiedBy>Kimberly L. Tripp</cp:lastModifiedBy>
  <dcterms:modified xsi:type="dcterms:W3CDTF">2004-02-23T23:00:19Z</dcterms:modified>
  <cp:revision>350</cp:revision>
  <dc:subject>Perf Tuning - Logging &amp;  Recovery</dc:subject>
  <dc:title>Understanding Logging &amp; Recovery - What Programmers Always Avoid Until it's too late</dc:title>
</cp:coreProperties>
</file>